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FC7-4137-478B-9D60-B24C0B49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EC0-BF79-478F-8C80-8BDC7A7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3F4-C03F-47FE-B5A0-A25CA1A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54E-57A7-4B0B-A3A2-934100A6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2C9D-14EE-445D-B6C2-52475DF0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FC96-7896-425D-A3B5-B575EB72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3E9-BE2F-4C0B-9A01-7458FCE7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FEA-6B77-4EE7-B3EA-05B831E1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05CB-F896-411B-8FE7-1108C6F2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174-DD4B-47D4-AF18-EAF16DC7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D862-29D4-43F5-9FE4-F062B9C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AD6-6B50-4BAB-9F06-E365B786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D941-CAA6-4E5E-806D-F09440070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457200"/>
            <a:ext cx="4495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entury Gothic"/>
              </a:rPr>
              <a:t>Le Singe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422748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6095880"/>
            <a:ext cx="40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: Marleny Archila et Julia Trang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0" r="0" b="6454"/>
          <a:stretch/>
        </p:blipFill>
        <p:spPr>
          <a:xfrm>
            <a:off x="3200400" y="2666880"/>
            <a:ext cx="2133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l est le plus fort de singe dans le mon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inge hurleur est le plus fort des animaux dans le m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90920" y="2940120"/>
            <a:ext cx="41907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pouvez-un singe pes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singe peut peser 4 onces à 100 liv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4864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de temps dois singes viv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peut vivre pour avoir plus de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057400" y="2511360"/>
            <a:ext cx="50292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quel âge sont des singes mat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singes sont matures à 4 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babouins marchent sur quatre patt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35607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ut singes na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de l'Ancien Monde sont bonnes à la natation, mais préfèrent rester hors de l'ea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88620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953240" cy="4372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380880"/>
            <a:ext cx="57913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Merci d'avoir regardé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’est-ce que manger du si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monge le fruit, laisse, herbe, oeufs, insectes, et arig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8120" y="3505320"/>
            <a:ext cx="330516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ù ne vivent sing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habite en arbres, prairies, 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êts, et montagn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529080" y="2333520"/>
            <a:ext cx="2085840" cy="2190960"/>
            <a:chOff x="3529080" y="2333520"/>
            <a:chExt cx="2085840" cy="2190960"/>
          </a:xfrm>
        </p:grpSpPr>
        <p:sp>
          <p:nvSpPr>
            <p:cNvPr id="51" name=""/>
            <p:cNvSpPr txBox="1"/>
            <p:nvPr/>
          </p:nvSpPr>
          <p:spPr>
            <a:xfrm>
              <a:off x="3529080" y="2333520"/>
              <a:ext cx="2085840" cy="219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42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ien de types de singes ils son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y a 264 e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 connues de singes. Les es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ces son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visé en de nouveaux monde singes et des mondes ancien si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285768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019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veaux monde s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4382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67040" y="6095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des ancien si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’est-ce que est la petit singe de la mo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"/>
              </a:rPr>
              <a:t>Ouistiti Pygmée 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ygmy Marmoset) est le petit singe de la mond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baby marmosets or finger puppets"/>
          <p:cNvPicPr/>
          <p:nvPr/>
        </p:nvPicPr>
        <p:blipFill>
          <a:blip r:embed="rId1"/>
          <a:stretch/>
        </p:blipFill>
        <p:spPr>
          <a:xfrm>
            <a:off x="914400" y="3352680"/>
            <a:ext cx="2857680" cy="2737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ad"/>
          <p:cNvPicPr/>
          <p:nvPr/>
        </p:nvPicPr>
        <p:blipFill>
          <a:blip r:embed="rId2"/>
          <a:stretch/>
        </p:blipFill>
        <p:spPr>
          <a:xfrm>
            <a:off x="4952880" y="3200400"/>
            <a:ext cx="2962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’est-ce que el grande singe dans la mo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ndrill singe est le grande singe en la monde. El est 60 livres et 110 pounces gr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668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 les singes communiqu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utiliser des vocalisations et des expressions facia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2957400"/>
            <a:ext cx="41911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les dents ne singes du mondiales nouveaux 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es du mondiales nouveaux ont 36 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14600" y="2590920"/>
            <a:ext cx="51814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27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en les dents ne singes du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des ancien singe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des ancien singes ont 32 les 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81080" y="2557440"/>
            <a:ext cx="5029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ulia</cp:lastModifiedBy>
  <dcterms:modified xsi:type="dcterms:W3CDTF">2012-03-11T21:50:0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